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dt" idx="3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ftr" idx="3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 type="sldNum" idx="3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4ACF-6D08-48CB-B83C-DB9C45695A23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A99C6-D7C6-4843-A918-902B135472E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acekeeping operations carry a risk for HIV transmission. You need to know about prevention so you c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 your h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 the health of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 the legitimacy of the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BD36753-4FF3-4EFC-B74B-34D31490666C}" type="slidenum"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You Must Know </a:t>
            </a:r>
            <a:br>
              <a:rPr sz="1200"/>
            </a:b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How to Use a Condom Proper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3DB41-D1C2-4912-9AB8-219A1982D899}" type="slidenum">
              <a:rPr b="0" lang="en-C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69857-C41A-4F87-A790-AC5AF463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1E7A-2816-47D1-A579-1CD188AB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96CA-F053-4D4A-ABAB-9F2BDA85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738FC-A4FB-417F-AB3A-8A1B1845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3F7B2-8ECB-4EF2-A2EC-2ED40E3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0C28F-CCEC-4D9C-9943-69E43F09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6DDDA-93EB-4F3E-8F07-401A5A1D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6300C-B689-4D99-9B91-B5ACA015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740A-8E67-4B30-80F7-A64AAC57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5BE7D-67E4-4262-B457-49F20ED4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3808-074D-48D1-A71C-2BAE6EEB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3D156-36F0-4EA7-AD62-0D642D80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4117E-F4EE-4182-B511-770F2FBA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73B8E-5931-4784-AF1A-5F458147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98FA7-B3E5-4E3A-B6D8-7D723F8E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CF196-9AF6-46C6-96C4-DE7C8FA4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503BE-1A7A-4D12-9C63-CFBC346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EED38-E28B-4742-8BD6-1CA7DA1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A69F8-781F-426D-B7D4-3C3BDC2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AFD1D-9299-4B51-933F-BFCFE64B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9EF5F-7FA8-4664-9B7C-B4A6E05B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80684-E736-450A-B436-D5B3BB12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E9329-DF03-44C0-A415-E4004DBE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06A3E-2246-4925-8B25-2764C619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066FF-B9A7-44D0-89D7-961D085E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75944-1E70-49FA-9CA3-F0022DF4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ED29A-DC66-478F-89E6-9E60ABC8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34132-3979-4801-85A8-DBEA9832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1CE03-46B8-49AE-A98E-3B3E15F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48B68-EDF7-4BC4-BACB-7338E4F1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33706-8924-47D0-822B-AEE9117B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A93D8-5886-491E-B7BD-AF7405FF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ECF0E-0B6D-4294-AF58-7F4B22F6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5F746-5C8A-4902-9978-49B1F155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05C65-A204-4CC4-B754-A1487B3A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4EA5F-AF49-420D-8E05-23F6DE76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2380A-0AD4-4F7E-AEE1-E77D878F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68D5F-A1A5-4E4E-84FE-93E8EEA3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6E734-232E-4804-AC2E-335DDAB2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966E6-AD1E-47DE-AFBC-8E45E26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44C5E-27F7-41A5-BB8E-7506AB7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F5FDA-78D1-4D44-B258-BB734CF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49AF8-66B4-40DB-B4CC-43089C33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B2EF2-CB21-4183-AF3D-09299774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ADBA5-2431-45D6-832A-08E474C4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E27-7CE9-4D4A-B4C6-80B0B994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D9F-E6C0-4568-A95A-E3AE61D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556-CDCB-41C0-9FE3-FF23BC9B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385-FF01-4BE5-99EF-298D82D5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FCF-953D-4006-96EE-EED0178E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FE4-4B14-4347-874C-21A6ABFE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F11-009F-485A-A600-03CA0E0B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33A-48B6-4A88-9CB2-0E61592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E5E-8F26-4F59-81C9-CCDDF7B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445-EF96-45E8-8AFF-ECBF26D7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650-68D2-4FE2-9B91-8163F62A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BCD-E587-40C8-9316-701B8CA7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9ED0-2EBC-4578-BF15-66BE04E4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F917-EF7A-4039-8552-6E27913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63DC-F634-4110-A97F-3C8F52D9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F7F6-1001-424A-889F-577AF1A8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B2D4-763A-4151-A366-9793B97D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D094-3BF2-4EB9-ABB7-41415DAE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25CB-9EFD-4FC0-B322-D84747FB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43B3-E51B-4A6C-A7BD-7BD9F83C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400E-BE84-4C2A-97F9-F03027F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C678-E48A-4223-A382-1E9CB5B5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334A-F7DA-4E97-BEDA-40BBB76A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159E-40CD-4C8A-B889-144D0FA5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75FC7-CA35-4E1E-B3BC-77FDA2C5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705C-76AB-437E-BA1C-DDEFEAC3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0EF8-BB4E-47AA-B4D1-DF1B76CB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870B-F9BB-4598-98CD-1931F5D1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63E7-2760-48DB-AB2F-C49AC09C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88A9-6BB7-4DC9-88C2-8794ACDF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D927-4508-4948-B754-1D52FD79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09419-1BF4-4B11-8680-F2411C35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6A9C-1C5F-45B4-8926-3724180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2145E-B27A-4D24-888E-2A011B9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3AF4-34C6-4EB1-92D4-7F153EB0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A83A-259E-4184-A680-E87C9C47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FA363-CFB7-4EC7-8D4B-D05102F1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E2535-12C9-449F-BD29-37AED2B1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A686-DB7B-4E67-8AEE-90735B38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044C-64AA-49F5-98A6-EDDE39B4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D70C-B786-4733-92F2-C57DD92A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46A4-EBC8-4390-8C34-BD61D124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71EC-68F1-46B2-B311-7258BCF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DBA3-1C6C-4FBE-B251-E9EB70D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F3767-EDCE-42B1-A987-D9417BEB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F890-5727-4AA7-B211-9641F281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43BD-2DD5-46B1-9430-6958C633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22273-ED9C-4A65-A0E6-A93F38D4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39F8-86DB-4600-9B11-D3823ECE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B9C68-A8DA-4F73-A9C3-B2391437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DC4A7-0D25-4736-A244-8BE7FE4F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6583-62D5-426D-8DFD-D48B4DBA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69CBD-8146-47BE-BB07-4B7AF2F4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44071-BACA-473B-9D65-5202F1A8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A607-9B55-43C2-93C9-92C6CD4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B25A3-2D15-46AE-B3DA-A05BAC29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C5F92-2496-484C-8BDA-170AA7A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621C0-1172-40DE-9979-FF472A98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5FEF1-3617-4E35-B3D2-C2E70038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E8EC7-31F5-4044-A207-506BA60D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91A9A-C1F8-4C72-9A98-CC49944B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7491F-59D5-48C9-8720-5B07A78D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5CD9-6B57-42CA-8B0F-E4C9481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D93F2-0D19-48BE-AAE8-BC056308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57E3A-16AE-41F0-AF04-69956653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7821-891F-40C7-BA4F-8EF4F29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ABE17-819A-4467-9F91-7C82D68F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C52D5-D8F7-4DE2-9222-E871F7F2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49A36-C185-4664-B7EC-C9059E6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0" y="3547440"/>
            <a:ext cx="91440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0E821-98B0-4428-8B8C-F407F8D9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5760" y="712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85760" y="3547440"/>
            <a:ext cx="446220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AD93-A048-4F87-AC56-CAA6E621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9168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83360" y="712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09168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183360" y="3547440"/>
            <a:ext cx="2944080" cy="25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6BD8E-8072-42BA-81AC-B26E6137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56587-09CE-449C-B228-5CE8D60A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86FE1-D53C-4087-9918-ED5D0E1C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30A0-8104-46FF-9FDA-734795A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2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4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9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10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458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460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461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464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465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DA93-3818-45F3-AA37-08F41B193A1E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509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511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515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516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C904-7030-472F-B9CD-02AE2C5AFA67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560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562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566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567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6112-E5DB-43A4-B896-8BDE1E5C0818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51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55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56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Rectangle 14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59" name="Rectangle 14" descr=""/>
            <p:cNvPicPr/>
            <p:nvPr/>
          </p:nvPicPr>
          <p:blipFill>
            <a:blip r:embed="rId7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102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106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107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7" descr="unlogo"/>
          <p:cNvPicPr/>
          <p:nvPr/>
        </p:nvPicPr>
        <p:blipFill>
          <a:blip r:embed="rId7"/>
          <a:stretch/>
        </p:blipFill>
        <p:spPr>
          <a:xfrm>
            <a:off x="0" y="6407280"/>
            <a:ext cx="533520" cy="45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9EE9-A2CB-4401-8209-ADB686D3F24D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154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158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159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D577-0104-466D-B3C5-40F7EA0E43C6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205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209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210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247-26CD-4ACA-B1E3-3B01533FF2D5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256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260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261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F79C-5E21-4D5E-8DE4-64FACBED8062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307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311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312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4B6C-58C9-4CA0-8B03-86405D8162CA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356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358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362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363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CF36-87D5-49AE-91E6-672911EE16E2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DMTC logo.jpg"/>
          <p:cNvPicPr/>
          <p:nvPr/>
        </p:nvPicPr>
        <p:blipFill>
          <a:blip r:embed="rId2"/>
          <a:stretch/>
        </p:blipFill>
        <p:spPr>
          <a:xfrm>
            <a:off x="6640560" y="6232680"/>
            <a:ext cx="460440" cy="5839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7"/>
          <p:cNvSpPr/>
          <p:nvPr/>
        </p:nvSpPr>
        <p:spPr>
          <a:xfrm>
            <a:off x="7039080" y="63864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orate of Military Training and Cooperation – Canad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  <a:ea typeface="MS PGothic"/>
              </a:rPr>
              <a:t>Direction de l’instruction et de la coopération militaire – Canad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3"/>
          <a:stretch/>
        </p:blipFill>
        <p:spPr>
          <a:xfrm>
            <a:off x="309600" y="6348240"/>
            <a:ext cx="1660320" cy="343080"/>
          </a:xfrm>
          <a:prstGeom prst="rect">
            <a:avLst/>
          </a:prstGeom>
          <a:ln w="0">
            <a:noFill/>
          </a:ln>
        </p:spPr>
      </p:pic>
      <p:pic>
        <p:nvPicPr>
          <p:cNvPr id="409" name="Straight Connector 10" descr=""/>
          <p:cNvPicPr/>
          <p:nvPr/>
        </p:nvPicPr>
        <p:blipFill>
          <a:blip r:embed="rId4"/>
          <a:stretch/>
        </p:blipFill>
        <p:spPr>
          <a:xfrm>
            <a:off x="-103320" y="6040440"/>
            <a:ext cx="9375840" cy="2271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1"/>
          <p:cNvSpPr/>
          <p:nvPr/>
        </p:nvSpPr>
        <p:spPr>
          <a:xfrm>
            <a:off x="2670120" y="6332400"/>
            <a:ext cx="1251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ANADIAN ARM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CA" sz="600" spc="-1" strike="noStrike">
                <a:solidFill>
                  <a:srgbClr val="000000"/>
                </a:solidFill>
                <a:latin typeface="Calibri"/>
                <a:ea typeface="Arial"/>
              </a:rPr>
              <a:t>COMMAND AND STAFF COLLE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5008680" y="6353280"/>
            <a:ext cx="1538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COLLÈGE DE COMMANDEMENT E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" spc="-1" strike="noStrike">
                <a:solidFill>
                  <a:srgbClr val="000000"/>
                </a:solidFill>
                <a:latin typeface="Calibri"/>
                <a:ea typeface="Arial"/>
              </a:rPr>
              <a:t>D’ÉTAT-MAJOR DE L’ARMÉE CANADIENN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14" descr=""/>
          <p:cNvPicPr/>
          <p:nvPr/>
        </p:nvPicPr>
        <p:blipFill>
          <a:blip r:embed="rId5"/>
          <a:stretch/>
        </p:blipFill>
        <p:spPr>
          <a:xfrm>
            <a:off x="3921120" y="5470560"/>
            <a:ext cx="1087560" cy="1387440"/>
          </a:xfrm>
          <a:prstGeom prst="rect">
            <a:avLst/>
          </a:prstGeom>
          <a:ln w="0">
            <a:noFill/>
          </a:ln>
        </p:spPr>
      </p:pic>
      <p:grpSp>
        <p:nvGrpSpPr>
          <p:cNvPr id="413" name="Rectangle 12"/>
          <p:cNvGrpSpPr/>
          <p:nvPr/>
        </p:nvGrpSpPr>
        <p:grpSpPr>
          <a:xfrm>
            <a:off x="-146160" y="-146160"/>
            <a:ext cx="9436320" cy="993960"/>
            <a:chOff x="-146160" y="-146160"/>
            <a:chExt cx="9436320" cy="993960"/>
          </a:xfrm>
        </p:grpSpPr>
        <p:pic>
          <p:nvPicPr>
            <p:cNvPr id="414" name="Rectangle 12" descr=""/>
            <p:cNvPicPr/>
            <p:nvPr/>
          </p:nvPicPr>
          <p:blipFill>
            <a:blip r:embed="rId6"/>
            <a:stretch/>
          </p:blipFill>
          <p:spPr>
            <a:xfrm>
              <a:off x="-146160" y="-146160"/>
              <a:ext cx="9436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0" y="0"/>
              <a:ext cx="9144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0" y="712440"/>
            <a:ext cx="91440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42840" indent="-257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4308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85800" indent="-2142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858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E84E-C279-45B8-97DD-9B9113553F91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-360" y="699840"/>
            <a:ext cx="9077400" cy="208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 Light"/>
              </a:rPr>
              <a:t>HIV and Aids in PKO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618" name="Picture 4" descr="C:\! A Work Current or Backup\! Core Integrated Training\Photos\UN flag.jpg"/>
          <p:cNvPicPr/>
          <p:nvPr/>
        </p:nvPicPr>
        <p:blipFill>
          <a:blip r:embed="rId1"/>
          <a:stretch/>
        </p:blipFill>
        <p:spPr>
          <a:xfrm>
            <a:off x="2773440" y="2567160"/>
            <a:ext cx="3432240" cy="236520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500040" y="5611680"/>
            <a:ext cx="378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Pre-Deployment Training (PDT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Core PDT Materia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Ed.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7" descr="unlogo"/>
          <p:cNvPicPr/>
          <p:nvPr/>
        </p:nvPicPr>
        <p:blipFill>
          <a:blip r:embed="rId2"/>
          <a:stretch/>
        </p:blipFill>
        <p:spPr>
          <a:xfrm>
            <a:off x="0" y="5589720"/>
            <a:ext cx="5335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24000" y="15969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no double message in regards with the two U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N policy </a:t>
            </a: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forbid S.E.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t </a:t>
            </a: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sexual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 Sex and sexuality is part of normal human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om is a preventive tool , a medical device aimed to diminish the risk to get infected by HIV or other S.T.I., and to prevent unwanted pregna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dom is like a weapon, the fact that you carry it does not mean you will tend to have prohibited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itle 3"/>
          <p:cNvSpPr/>
          <p:nvPr/>
        </p:nvSpPr>
        <p:spPr>
          <a:xfrm>
            <a:off x="0" y="18900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Zero Tolerance Policy vs Condom 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3"/>
          <p:cNvSpPr/>
          <p:nvPr/>
        </p:nvSpPr>
        <p:spPr>
          <a:xfrm>
            <a:off x="714240" y="212076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ay to know whether you have HI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o have an HIV t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itle 3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How to know if you have HIV/AI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457200" y="159516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No Discrim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ainst people living with HIV at the work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No Obli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get tested prior to working for the 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V/AIDS must be considered as any other chronic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itle 3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UN Policy on HIV / A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2828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lowing resolution 1308 and the Declaration of Commitment on HIV/AIDS, </a:t>
            </a: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DP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UNA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collaborated to post HIV/AIDS Policy Advisors in every Peace Keeping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then there have been HIV/AIDS Policy Advisers posted in : </a:t>
            </a: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Sierra Leone, Democratic Republic of Congo, Eritrea &amp; Ethiopia, Kosovo, East Timor, Liberia Ivory Coast, Haiti, Soudan, South Soudan,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itle 3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Peacekeeping and HIV/A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360360" y="1268280"/>
            <a:ext cx="8423280" cy="417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7e6e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sitization and training of peacekeeping personnel (all 3 components)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V/AIDS awareness and prevention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information, education and communication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5704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om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assistance and counseling on HIV/AIDS related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suring linkages with the host country and partners engaged in the fight against HIV/A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itle 3"/>
          <p:cNvSpPr/>
          <p:nvPr/>
        </p:nvSpPr>
        <p:spPr>
          <a:xfrm>
            <a:off x="0" y="-14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Key Activities of the HIV/AIDS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itle 1"/>
          <p:cNvSpPr/>
          <p:nvPr/>
        </p:nvSpPr>
        <p:spPr>
          <a:xfrm>
            <a:off x="34920" y="44280"/>
            <a:ext cx="91090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Key Mess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Content Placeholder 4"/>
          <p:cNvSpPr/>
          <p:nvPr/>
        </p:nvSpPr>
        <p:spPr>
          <a:xfrm>
            <a:off x="25092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IV transmission is preventable You can protect yourself from getting HIV through abstinence or by using a condom when nece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et tested to find out if you have HIV or AIDS and protect yourself and your part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y one can become infected with HIV. Respect persons living with HIV and A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ventive measures are not only important for protecting yourself and others but also are critical to protecting the legitimacy of the peace keeping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2766960" y="2513160"/>
            <a:ext cx="3610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15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0" y="20628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Main Teaching Points (MT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380880" y="160020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lerance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IV/AIDS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Content Placeholder 4"/>
          <p:cNvSpPr/>
          <p:nvPr/>
        </p:nvSpPr>
        <p:spPr>
          <a:xfrm>
            <a:off x="1763640" y="1628640"/>
            <a:ext cx="55436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H = Hu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 = Immunode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V = 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6"/>
          <p:cNvSpPr/>
          <p:nvPr/>
        </p:nvSpPr>
        <p:spPr>
          <a:xfrm>
            <a:off x="428760" y="45086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7480" indent="-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V = a virus that causes the weakening of the human defense system against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itle 3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What does HIV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Content Placeholder 4"/>
          <p:cNvSpPr/>
          <p:nvPr/>
        </p:nvSpPr>
        <p:spPr>
          <a:xfrm>
            <a:off x="684360" y="1268280"/>
            <a:ext cx="795816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22440" indent="-2422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= </a:t>
            </a:r>
            <a:r>
              <a:rPr b="0" lang="en-CA" sz="2400" spc="-1" strike="noStrike">
                <a:solidFill>
                  <a:srgbClr val="0563c1"/>
                </a:solidFill>
                <a:latin typeface="Arial"/>
                <a:ea typeface="Arial"/>
              </a:rPr>
              <a:t>Acquir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virus has been received from another infected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22440" indent="-2422440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22440" indent="-2422440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= </a:t>
            </a:r>
            <a:r>
              <a:rPr b="0" lang="en-CA" sz="2400" spc="-1" strike="noStrike">
                <a:solidFill>
                  <a:srgbClr val="0563c1"/>
                </a:solidFill>
                <a:latin typeface="Arial"/>
                <a:ea typeface="Arial"/>
              </a:rPr>
              <a:t>Immune </a:t>
            </a:r>
            <a:r>
              <a:rPr b="0" lang="en-CA" sz="24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r>
              <a:rPr b="0" lang="en-CA" sz="2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body’s defence system against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22440" indent="-2422440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22440" indent="-2422440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D= </a:t>
            </a:r>
            <a:r>
              <a:rPr b="0" lang="en-CA" sz="2400" spc="-1" strike="noStrike">
                <a:solidFill>
                  <a:srgbClr val="0563c1"/>
                </a:solidFill>
                <a:latin typeface="Arial"/>
                <a:ea typeface="Arial"/>
              </a:rPr>
              <a:t>Deficiency</a:t>
            </a:r>
            <a:r>
              <a:rPr b="0" lang="en-CA" sz="2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not working properly – the immune system is w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22440" indent="-2422440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22440" indent="-2422440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= </a:t>
            </a:r>
            <a:r>
              <a:rPr b="0" lang="en-CA" sz="2400" spc="-1" strike="noStrike">
                <a:solidFill>
                  <a:srgbClr val="0563c1"/>
                </a:solidFill>
                <a:latin typeface="Arial"/>
                <a:ea typeface="Arial"/>
              </a:rPr>
              <a:t>Syndrom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llection of symptoms associated with a particular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itle 3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What does AIDS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0" y="1268280"/>
            <a:ext cx="91440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An HIV (+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son is someone who has been infected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irus and can in </a:t>
            </a: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some sit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ansmit it to 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arrie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An HIV(+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son can live with the virus from 1 to 1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ars before starting to be si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563c1"/>
                </a:solidFill>
                <a:latin typeface="Arial"/>
                <a:ea typeface="Arial"/>
              </a:rPr>
              <a:t>AI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last stage of an HIV infection, resulting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th if no treatment is avail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itle 3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Difference between HIV+ and A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34440" y="1268280"/>
            <a:ext cx="8472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90000"/>
              </a:lnSpc>
              <a:spcBef>
                <a:spcPts val="36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Unprotected sex with infected partner - vaginal, oral or a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36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nfected blood / blood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36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haring contaminated injection equipment – e.g. nee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3600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rom mother to child during pregnancy, delivery or breastfee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itle 3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Trans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250920" y="764640"/>
            <a:ext cx="847224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nimals or insects b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Non-sexual contact between people in dail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ing toilets or showers or a swimming p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Visit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hospital or medical w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ughing or snee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uching, hugging or shaking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aring food or eating or drinking using utens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orking, socializing, living with or sharing the same room with an HIV positive p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having protected sex with an infected partn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black magic, devil ey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itle 3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HIV is 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NOT</a:t>
            </a: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 spread b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</a:rPr>
              <a:t>The “A, B, Cs” of HIV Prevention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13880" y="1628280"/>
            <a:ext cx="9003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CA" sz="5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CA" sz="5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CA" sz="5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Content Placeholder 4"/>
          <p:cNvSpPr/>
          <p:nvPr/>
        </p:nvSpPr>
        <p:spPr>
          <a:xfrm>
            <a:off x="1542960" y="1563840"/>
            <a:ext cx="738684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stinence - No s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oid unprotected sex with stran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ocate for positive behavior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faithful to faithful Partner 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eak the Silence, talk about A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ondoms correctly and consist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seling in encouraged for infected/uninfected person and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04280" y="1290240"/>
            <a:ext cx="8501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th: Condoms are too slipp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: If the sex is not great, it’s not the condom’s faul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th: Condoms are too small for 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2" descr="C:\Users\Paula\AppData\Local\Microsoft\Windows\Temporary Internet Files\Content.IE5\3QW6C37W\j0292644[2].wmf"/>
          <p:cNvPicPr/>
          <p:nvPr/>
        </p:nvPicPr>
        <p:blipFill>
          <a:blip r:embed="rId1"/>
          <a:stretch/>
        </p:blipFill>
        <p:spPr>
          <a:xfrm>
            <a:off x="5724360" y="2781360"/>
            <a:ext cx="3205440" cy="3170160"/>
          </a:xfrm>
          <a:prstGeom prst="rect">
            <a:avLst/>
          </a:prstGeom>
          <a:ln w="0">
            <a:noFill/>
          </a:ln>
        </p:spPr>
      </p:pic>
      <p:sp>
        <p:nvSpPr>
          <p:cNvPr id="639" name="Title 3"/>
          <p:cNvSpPr/>
          <p:nvPr/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Facts and Myths about Cond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2" descr="C:\Users\Paula\AppData\Local\Microsoft\Windows\Temporary Internet Files\Content.IE5\HHJ18CDD\hm00326_[1].wmf"/>
          <p:cNvPicPr/>
          <p:nvPr/>
        </p:nvPicPr>
        <p:blipFill>
          <a:blip r:embed="rId2"/>
          <a:stretch/>
        </p:blipFill>
        <p:spPr>
          <a:xfrm>
            <a:off x="1258920" y="3141720"/>
            <a:ext cx="2928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7:46:56Z</dcterms:created>
  <dc:creator>DMTC Cottenoir</dc:creator>
  <dc:description/>
  <dc:language>en-US</dc:language>
  <cp:lastModifiedBy>Banerjee LCol S@CACSC@Defence365</cp:lastModifiedBy>
  <dcterms:modified xsi:type="dcterms:W3CDTF">2023-01-17T14:27:31Z</dcterms:modified>
  <cp:revision>128</cp:revision>
  <dc:subject/>
  <dc:title>UNSOC - 401.04.04 - Explain UN Policy concerning HIV Aids - 1410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OC Activity">
    <vt:lpwstr/>
  </property>
  <property fmtid="{D5CDD505-2E9C-101B-9397-08002B2CF9AE}" pid="3" name="Additional Change OPI(s) Required Name">
    <vt:lpwstr/>
  </property>
  <property fmtid="{D5CDD505-2E9C-101B-9397-08002B2CF9AE}" pid="4" name="ArmyDocOriginator">
    <vt:lpwstr>92;#Regular Force Education ＆ Training|2a23cfe6-daff-4d64-8906-5e7b90bbea92</vt:lpwstr>
  </property>
  <property fmtid="{D5CDD505-2E9C-101B-9397-08002B2CF9AE}" pid="5" name="Business Record Approvals">
    <vt:lpwstr/>
  </property>
  <property fmtid="{D5CDD505-2E9C-101B-9397-08002B2CF9AE}" pid="6" name="CACSC Courses">
    <vt:lpwstr>;#UNSOC;#</vt:lpwstr>
  </property>
  <property fmtid="{D5CDD505-2E9C-101B-9397-08002B2CF9AE}" pid="7" name="CDMG Lead Section">
    <vt:lpwstr/>
  </property>
  <property fmtid="{D5CDD505-2E9C-101B-9397-08002B2CF9AE}" pid="8" name="Change Required - Priority">
    <vt:lpwstr/>
  </property>
  <property fmtid="{D5CDD505-2E9C-101B-9397-08002B2CF9AE}" pid="9" name="Change Required - Type">
    <vt:lpwstr/>
  </property>
  <property fmtid="{D5CDD505-2E9C-101B-9397-08002B2CF9AE}" pid="10" name="College Translation Priority">
    <vt:lpwstr>None</vt:lpwstr>
  </property>
  <property fmtid="{D5CDD505-2E9C-101B-9397-08002B2CF9AE}" pid="11" name="Content Comments">
    <vt:lpwstr/>
  </property>
  <property fmtid="{D5CDD505-2E9C-101B-9397-08002B2CF9AE}" pid="12" name="Curriculum Category">
    <vt:lpwstr>Briefings and Presentations</vt:lpwstr>
  </property>
  <property fmtid="{D5CDD505-2E9C-101B-9397-08002B2CF9AE}" pid="13" name="Curriculum EO">
    <vt:lpwstr>UNSOC EO 401.04 - Student Activities</vt:lpwstr>
  </property>
  <property fmtid="{D5CDD505-2E9C-101B-9397-08002B2CF9AE}" pid="14" name="Curriculum Subject">
    <vt:lpwstr>UNSOC PO 401 - Apply Communication and Briefing  Techniques</vt:lpwstr>
  </property>
  <property fmtid="{D5CDD505-2E9C-101B-9397-08002B2CF9AE}" pid="15" name="Curriculum Type">
    <vt:lpwstr>Enabling Objectives</vt:lpwstr>
  </property>
  <property fmtid="{D5CDD505-2E9C-101B-9397-08002B2CF9AE}" pid="16" name="Curriculum Use">
    <vt:lpwstr/>
  </property>
  <property fmtid="{D5CDD505-2E9C-101B-9397-08002B2CF9AE}" pid="17" name="Date Issued">
    <vt:lpwstr>2017-10-06T00:00:00Z</vt:lpwstr>
  </property>
  <property fmtid="{D5CDD505-2E9C-101B-9397-08002B2CF9AE}" pid="18" name="Designation">
    <vt:lpwstr>UU</vt:lpwstr>
  </property>
  <property fmtid="{D5CDD505-2E9C-101B-9397-08002B2CF9AE}" pid="19" name="Distribution Org">
    <vt:lpwstr>Comd &amp; Staff Sch (Reg)</vt:lpwstr>
  </property>
  <property fmtid="{D5CDD505-2E9C-101B-9397-08002B2CF9AE}" pid="20" name="Distribution Sub-org">
    <vt:lpwstr>DS (DL)</vt:lpwstr>
  </property>
  <property fmtid="{D5CDD505-2E9C-101B-9397-08002B2CF9AE}" pid="21" name="Document Author">
    <vt:lpwstr>10466</vt:lpwstr>
  </property>
  <property fmtid="{D5CDD505-2E9C-101B-9397-08002B2CF9AE}" pid="22" name="Document Category">
    <vt:lpwstr>Briefings and Presentations</vt:lpwstr>
  </property>
  <property fmtid="{D5CDD505-2E9C-101B-9397-08002B2CF9AE}" pid="23" name="Document Function">
    <vt:lpwstr>07 - Training</vt:lpwstr>
  </property>
  <property fmtid="{D5CDD505-2E9C-101B-9397-08002B2CF9AE}" pid="24" name="Document Subject">
    <vt:lpwstr>UNSOC</vt:lpwstr>
  </property>
  <property fmtid="{D5CDD505-2E9C-101B-9397-08002B2CF9AE}" pid="25" name="DocumentSetDescription">
    <vt:lpwstr/>
  </property>
  <property fmtid="{D5CDD505-2E9C-101B-9397-08002B2CF9AE}" pid="26" name="File Number">
    <vt:lpwstr>04800-1</vt:lpwstr>
  </property>
  <property fmtid="{D5CDD505-2E9C-101B-9397-08002B2CF9AE}" pid="27" name="Fiscal Year">
    <vt:lpwstr>FY 17/18</vt:lpwstr>
  </property>
  <property fmtid="{D5CDD505-2E9C-101B-9397-08002B2CF9AE}" pid="28" name="IconOverlay">
    <vt:lpwstr/>
  </property>
  <property fmtid="{D5CDD505-2E9C-101B-9397-08002B2CF9AE}" pid="29" name="IssueStatus">
    <vt:lpwstr>Active</vt:lpwstr>
  </property>
  <property fmtid="{D5CDD505-2E9C-101B-9397-08002B2CF9AE}" pid="30" name="Language">
    <vt:lpwstr>English</vt:lpwstr>
  </property>
  <property fmtid="{D5CDD505-2E9C-101B-9397-08002B2CF9AE}" pid="31" name="ManagedClassification">
    <vt:lpwstr>96;#U|104c4e1b-74ae-48bc-94d6-9ccaf4801c33</vt:lpwstr>
  </property>
  <property fmtid="{D5CDD505-2E9C-101B-9397-08002B2CF9AE}" pid="32" name="ManagedFileCode">
    <vt:lpwstr>64;#4668-1 Training - Foreign Military Training - General|151dd3bc-84df-4111-ab20-0ed14880438d</vt:lpwstr>
  </property>
  <property fmtid="{D5CDD505-2E9C-101B-9397-08002B2CF9AE}" pid="33" name="Op Names">
    <vt:lpwstr/>
  </property>
  <property fmtid="{D5CDD505-2E9C-101B-9397-08002B2CF9AE}" pid="34" name="Organization 1">
    <vt:lpwstr>CACSC</vt:lpwstr>
  </property>
  <property fmtid="{D5CDD505-2E9C-101B-9397-08002B2CF9AE}" pid="35" name="QS &amp; TP Change Required">
    <vt:lpwstr>No</vt:lpwstr>
  </property>
  <property fmtid="{D5CDD505-2E9C-101B-9397-08002B2CF9AE}" pid="36" name="Related Documents Requiring Change">
    <vt:lpwstr/>
  </property>
  <property fmtid="{D5CDD505-2E9C-101B-9397-08002B2CF9AE}" pid="37" name="SME Reviews Complete">
    <vt:lpwstr/>
  </property>
  <property fmtid="{D5CDD505-2E9C-101B-9397-08002B2CF9AE}" pid="38" name="SME Reviews Required">
    <vt:lpwstr/>
  </property>
  <property fmtid="{D5CDD505-2E9C-101B-9397-08002B2CF9AE}" pid="39" name="Section Translation Priority">
    <vt:lpwstr>None</vt:lpwstr>
  </property>
  <property fmtid="{D5CDD505-2E9C-101B-9397-08002B2CF9AE}" pid="40" name="Status of Required Change">
    <vt:lpwstr/>
  </property>
  <property fmtid="{D5CDD505-2E9C-101B-9397-08002B2CF9AE}" pid="41" name="TaxCatchAll">
    <vt:lpwstr>64;#4668-1 Training - Foreign Military Training - General|151dd3bc-84df-4111-ab20-0ed14880438d;#96;#U|104c4e1b-74ae-48bc-94d6-9ccaf4801c33;#92;#Regular Force Education ＆ Training|2a23cfe6-daff-4d64-8906-5e7b90bbea92</vt:lpwstr>
  </property>
  <property fmtid="{D5CDD505-2E9C-101B-9397-08002B2CF9AE}" pid="42" name="Translation Deadline Feasibility">
    <vt:lpwstr>N/A</vt:lpwstr>
  </property>
  <property fmtid="{D5CDD505-2E9C-101B-9397-08002B2CF9AE}" pid="43" name="Translation Request">
    <vt:lpwstr>0</vt:lpwstr>
  </property>
  <property fmtid="{D5CDD505-2E9C-101B-9397-08002B2CF9AE}" pid="44" name="URL">
    <vt:lpwstr/>
  </property>
  <property fmtid="{D5CDD505-2E9C-101B-9397-08002B2CF9AE}" pid="45" name="_dlc_DocId">
    <vt:lpwstr>CACSC-3-10333</vt:lpwstr>
  </property>
  <property fmtid="{D5CDD505-2E9C-101B-9397-08002B2CF9AE}" pid="46" name="_dlc_DocIdItemGuid">
    <vt:lpwstr>38ac8c7d-f1e1-4e3e-ba8c-300a51b6781e</vt:lpwstr>
  </property>
  <property fmtid="{D5CDD505-2E9C-101B-9397-08002B2CF9AE}" pid="47" name="_dlc_DocIdUrl">
    <vt:lpwstr>https://acims.mil.ca/trg/CACSC/Courses/Courses/_layouts/DocIdRedir.aspx?ID=CACSC-3-10333, CACSC-3-10333</vt:lpwstr>
  </property>
  <property fmtid="{D5CDD505-2E9C-101B-9397-08002B2CF9AE}" pid="48" name="display_urn:schemas-microsoft-com:office:office#Author">
    <vt:lpwstr>Behiels Maj JEP@CADTC HQ@Kingston</vt:lpwstr>
  </property>
  <property fmtid="{D5CDD505-2E9C-101B-9397-08002B2CF9AE}" pid="49" name="display_urn:schemas-microsoft-com:office:office#Document_x0020_Author">
    <vt:lpwstr>Elkorazati Maj IM@CACSC@Kingston</vt:lpwstr>
  </property>
  <property fmtid="{D5CDD505-2E9C-101B-9397-08002B2CF9AE}" pid="50" name="display_urn:schemas-microsoft-com:office:office#Editor">
    <vt:lpwstr>Delisle Capt JGR@CASC-CSAC@Kingston</vt:lpwstr>
  </property>
  <property fmtid="{D5CDD505-2E9C-101B-9397-08002B2CF9AE}" pid="51" name="f7b0ffbde8de403f913dcdb96f179c3b">
    <vt:lpwstr>Regular Force Education ＆ Training|2a23cfe6-daff-4d64-8906-5e7b90bbea92</vt:lpwstr>
  </property>
  <property fmtid="{D5CDD505-2E9C-101B-9397-08002B2CF9AE}" pid="52" name="if09d873025b4c87a553fa6a113b1297">
    <vt:lpwstr>U|104c4e1b-74ae-48bc-94d6-9ccaf4801c33</vt:lpwstr>
  </property>
  <property fmtid="{D5CDD505-2E9C-101B-9397-08002B2CF9AE}" pid="53" name="m36ae25fd2ba42b48319740ba9f7a6ce">
    <vt:lpwstr>4668-1 Training - Foreign Military Training - General|151dd3bc-84df-4111-ab20-0ed14880438d</vt:lpwstr>
  </property>
</Properties>
</file>